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D343-C66C-4ECC-9402-70BD44A9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E0F-4E7E-4C88-BD65-FC2D6D5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68F-97BC-485C-9F77-214EF4141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CE9-5844-42EF-A269-5C531518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880-2BDF-46B9-B55A-2D152B8D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D0D-C5F9-4D83-805E-60CB0FB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329-FE5D-4FA8-85A5-A6F68294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9A8-47E1-42A3-9625-2FFE15CC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2DC2-72CA-4CB8-902D-00AE20F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D6F-5DD6-4F6B-A6E1-F4310A7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141-042A-4026-ADCA-CF895CC6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D21-2918-4990-B064-014065A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8FAF-A754-4C27-80B7-5F018621B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oup 7" descr=""/>
          <p:cNvPicPr/>
          <p:nvPr/>
        </p:nvPicPr>
        <p:blipFill>
          <a:blip r:embed="rId1"/>
          <a:stretch/>
        </p:blipFill>
        <p:spPr>
          <a:xfrm>
            <a:off x="-115920" y="-55440"/>
            <a:ext cx="1305000" cy="1463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828720" y="449280"/>
            <a:ext cx="62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полнительные меры социальной поддержки семей,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х детей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Рисунок 11" descr=""/>
          <p:cNvPicPr/>
          <p:nvPr/>
        </p:nvPicPr>
        <p:blipFill>
          <a:blip r:embed="rId2"/>
          <a:stretch/>
        </p:blipFill>
        <p:spPr>
          <a:xfrm>
            <a:off x="6581880" y="111240"/>
            <a:ext cx="1787400" cy="1185840"/>
          </a:xfrm>
          <a:prstGeom prst="rect">
            <a:avLst/>
          </a:prstGeom>
          <a:ln w="0">
            <a:noFill/>
          </a:ln>
        </p:spPr>
      </p:pic>
      <p:sp>
        <p:nvSpPr>
          <p:cNvPr id="44" name="TextBox 14"/>
          <p:cNvSpPr/>
          <p:nvPr/>
        </p:nvSpPr>
        <p:spPr>
          <a:xfrm>
            <a:off x="1422360" y="6381720"/>
            <a:ext cx="68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Телефон «горячей линии» Отделения ПФР по Приморскому краю: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(423)249-86-0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247680" y="1203480"/>
            <a:ext cx="8645400" cy="524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23:45Z</dcterms:created>
  <dc:creator>000210</dc:creator>
  <dc:description/>
  <dc:language>en-US</dc:language>
  <cp:lastModifiedBy>Вовченко Александра Александровна</cp:lastModifiedBy>
  <cp:lastPrinted>2020-05-13T22:14:31Z</cp:lastPrinted>
  <dcterms:modified xsi:type="dcterms:W3CDTF">2020-05-13T23:49:08Z</dcterms:modified>
  <cp:revision>2313</cp:revision>
  <dc:subject/>
  <dc:title>Слайд 1</dc:title>
</cp:coreProperties>
</file>